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EAD-EF65-4F54-B485-4FE03D0A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5B5-5FD1-44AE-BDA5-CEC4F587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F40-25C4-4E1F-A94F-4D47FCC3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6BF-0326-4A5C-BE46-11A63082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F6C-FD7D-404A-8CC7-AD96F46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203-162C-4EAD-A0D0-96C49C6B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D21-2FCF-419A-AA36-DA1D14B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021-1E1A-4808-B132-24C711AA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3A2-215D-44ED-854E-A73DEF60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934-E140-4F6F-AA68-4B3F1F6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3C6-DCCB-48DB-9697-EDA87D21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EDF-5A4C-4671-9683-15DC065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CCCA-DE20-4107-B333-A137828F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copies hand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makes organisms more adv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descended from 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more evolutionarily advanced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lleles are for benefici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not b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a theory (not a fact), therefore evolution is just spe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’t believe in God and in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does not explain how life orig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acts for the good of the species o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 be summarized by the phrase: “Survival of the fitt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ganisms can adapt or evolve to better survive in new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(e.g. the tallest, the most red, etc.) trait of an organism allows it to surviv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does not always result in a species being perfectly adapted to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53:12Z</dcterms:created>
  <dc:creator>rubina khan</dc:creator>
  <dc:description/>
  <dc:language>en-US</dc:language>
  <cp:lastModifiedBy>rubina khan</cp:lastModifiedBy>
  <dcterms:modified xsi:type="dcterms:W3CDTF">2014-11-07T13:34:42Z</dcterms:modified>
  <cp:revision>31</cp:revision>
  <dc:subject/>
  <dc:title>Evolution Quiz</dc:title>
</cp:coreProperties>
</file>